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504-D23E-4409-B9A1-F72B084C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A61-E8E8-4844-B27B-ADF160E0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6F1-D6F2-4DF9-B92A-AD807390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AC6-63B6-4A02-84A7-5CEDF3B1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22C-9249-43D9-888E-2729365D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392-C39B-4C75-84AA-F8097176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4BF-E092-404A-87B6-D9AC351B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9B34-FF3E-4C21-88CE-38402D39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277-8506-4DA3-8484-0D7525AC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CA5-C939-4D8F-8E52-2364D4DE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0FF5-1A39-4388-82E5-1A74316F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D34D-EE8B-493D-BB51-7B5E13A1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B97E-DBB1-4B92-812C-460E2BEE2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3695760" cy="3181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4400" y="41148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Virtual Reality Photograp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6920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467840" cy="61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37094" r="0" b="0"/>
          <a:stretch/>
        </p:blipFill>
        <p:spPr>
          <a:xfrm>
            <a:off x="380880" y="1295280"/>
            <a:ext cx="8248680" cy="478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90920" y="53352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Calligraphy"/>
              </a:rPr>
              <a:t>f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22866" r="0" b="0"/>
          <a:stretch/>
        </p:blipFill>
        <p:spPr>
          <a:xfrm>
            <a:off x="0" y="228600"/>
            <a:ext cx="891540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31079" r="0" b="0"/>
          <a:stretch/>
        </p:blipFill>
        <p:spPr>
          <a:xfrm>
            <a:off x="457200" y="1066680"/>
            <a:ext cx="7696080" cy="5238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9072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hutter Spe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1295280"/>
            <a:ext cx="38862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The higher the shutter speed the more action you sto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gher the shutter speed the more light you need for proper expos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is the sensitivity of film or electronic c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3962520"/>
            <a:ext cx="586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3809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50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809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2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12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7:39:33Z</dcterms:created>
  <dc:creator>Floyd Ausburn</dc:creator>
  <dc:description/>
  <dc:language>en-US</dc:language>
  <cp:lastModifiedBy>Floyd Ausburn</cp:lastModifiedBy>
  <dcterms:modified xsi:type="dcterms:W3CDTF">2007-08-31T20:09:43Z</dcterms:modified>
  <cp:revision>9</cp:revision>
  <dc:subject/>
  <dc:title>Slide 1</dc:title>
</cp:coreProperties>
</file>